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9.gif" ContentType="image/gif"/>
  <Override PartName="/ppt/media/image24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21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AA8-2038-4D47-B00C-0F42A5D6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3FE-65F8-4ABB-9422-B8042352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0AC-4AC7-46BB-8CD0-924F929A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680-E637-4BBF-91E6-20CB8ABE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67D-243D-4337-8336-FFF1A78A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2BD-98FA-4D94-99E9-AAF8BCC2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A85-25A2-4392-B320-3CA7066C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2AB-27DA-40F7-8FFF-1A4DA70F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1D2-7D4B-4DC8-A48A-1B41A7E4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11B-94F2-495F-BF48-3D3886E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4C6-FC65-4C12-BE73-34B6BC26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808-5BC8-4299-8D18-72F0D904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CBEA-2D20-46DB-B67B-317D631D4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332000" y="19162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И ФИЗИОЛОГИЈЕ ЧОВЕК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332000" y="3068640"/>
            <a:ext cx="6624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. наставна јединица (седм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ологиј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3789000" y="1503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2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14480" y="58262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ф. др Владимир Живк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8960" y="1197000"/>
            <a:ext cx="8506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4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ировни мембрански потенција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едност мировног мембранског потенцијала је око -90 mV, што је приближно равнотежном потенцијал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 К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ком мировног мембранског потенцијала количина јона која уђе у кардиомиоците и која из њих изађе је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иближно ист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862360" y="3500280"/>
            <a:ext cx="3419280" cy="2492640"/>
          </a:xfrm>
          <a:prstGeom prst="rect">
            <a:avLst/>
          </a:prstGeom>
          <a:ln w="0">
            <a:noFill/>
          </a:ln>
        </p:spPr>
      </p:pic>
      <p:sp>
        <p:nvSpPr>
          <p:cNvPr id="87" name="Oval 4"/>
          <p:cNvSpPr/>
          <p:nvPr/>
        </p:nvSpPr>
        <p:spPr>
          <a:xfrm>
            <a:off x="5940360" y="5589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Природа и ширење ек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цитације кроз ср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проводни систем срц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чине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нтернодалн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нопо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предњи, средњи и задњи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исов сно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уркињеов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лак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7199280" cy="3819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44360" y="4941720"/>
            <a:ext cx="3203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атомска локализација делова спроводног система срца и изглед њиховог акционог 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05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 се налази на споју горње шупље вене и десне преткоморе, док с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AV чвор налази у задњем десном делу интератријалног септу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стоје три снопа преткоморских влакана која повезују SA чвор са 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чвором: предњи, средњ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енкебахов сно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enckebac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дњ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Торелов сно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hore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AV чвор се наставља Хисовим снопом, који се на врху интервентрикуларног септума дели на леву и десну гран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ране и снопови се простиру наниже у субендокардијалном слоју са сваке стране септума и ступају у контакт са Пуркињеовим системом, чија се влакна шире до свих делова миокарда ком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елије које ритмички окидају акционе потенцијале имај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мембранске потенцијале који се након сваког импулс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риближавају нивоу прага окидањ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ав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едводничк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епотенција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узрокује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станак следећег акционог потенција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физиолошким условим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предводник срчаног рит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pacemake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одређеним патолошким стањима када ј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 супримиран, улогу предводника срчаног ритма преуз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вор, Хисов сноп или Пуркињеова влакна, због чега се ови делови спроводног система називају “латентним” предводницима срчаног рит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проводни систем срца састављен је од модификованог срчаног мишића који има мање пруга и нејасне границ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кциони потенцијал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вор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фазе 1 и 2 које постоје у акционом потенцијалу преткомора, комора и Пуркињеових влака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4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стабилан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мировни мембрански потенцијал ил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пор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Настаје услед постојања канала који су пропустљиви за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 последичног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порог уласка јона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у ћели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874960" y="47242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3635280" y="5805360"/>
            <a:ext cx="2890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ви канали се активирају одмах након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хиперполаризаци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по завршеној реполаризациј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зивају се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н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ли због њихове неуобичајене (е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ешне) активације називају се и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”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и, а струја која настаје проласком јона кроз ове канале назива се смешна струја или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ny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874960" y="429084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03" name="Oval 5"/>
          <p:cNvSpPr/>
          <p:nvPr/>
        </p:nvSpPr>
        <p:spPr>
          <a:xfrm>
            <a:off x="3635280" y="5373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4716000" y="5832000"/>
            <a:ext cx="1080" cy="550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TextBox 11"/>
          <p:cNvSpPr/>
          <p:nvPr/>
        </p:nvSpPr>
        <p:spPr>
          <a:xfrm>
            <a:off x="3708360" y="630864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Хиперполаризација и активациј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„h” </a:t>
            </a: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кан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0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брз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степено повећање мембранског потенцијала током фазе 4 изазива отварање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порих)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лцијумских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след отварањ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а 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лазе у ћелију у изазивају деполариза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 разлику од фазе 0 у преткоморама, коморама и Пуркињеовим влакнима која настаје услед уласка јон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0 у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у настаје услед уласка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874960" y="47242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09" name="Oval 5"/>
          <p:cNvSpPr/>
          <p:nvPr/>
        </p:nvSpPr>
        <p:spPr>
          <a:xfrm>
            <a:off x="3851280" y="530064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3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На врху сваког импулса повећава се пропустљивост мембране за калијум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и повећан излазак јона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ћелије изазива реполариза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е 1 и 2 акционог потенцијала претокомора, комора и Пуркињеових влакан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 посто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акционом потенцијалу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874960" y="43624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13" name="Oval 5"/>
          <p:cNvSpPr/>
          <p:nvPr/>
        </p:nvSpPr>
        <p:spPr>
          <a:xfrm>
            <a:off x="4427640" y="4941720"/>
            <a:ext cx="360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за 4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краћ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траје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дуж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ис-Пуркињеовом систем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то је у физиолошким услови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предводник срчаног 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а стварања импулса у појединим деловима спроводног сис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– од 60 до 100 импулса у мину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чвор – од 40 до 60 импулса и мину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кињеова влакна – од 15 до 40 импулса у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Брзина спровођењ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мпулса ј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ајмањ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чвор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што даје довољно времена да се коморе напуне крвљу пре контракције, 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ајвећ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Пуркињеовим влакни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што омогућава да се сви делови комора контрахују истовреме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28720" y="3573360"/>
            <a:ext cx="568656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3160" y="837720"/>
            <a:ext cx="537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7030a0"/>
                </a:solidFill>
                <a:latin typeface="Arial"/>
              </a:rPr>
              <a:t>Грађа срца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е претко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е ко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Четири зал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триовентрику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трикуспидни ( три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митрални ( два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милуна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залистак а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залистак плућне ар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"/>
          <p:cNvPicPr/>
          <p:nvPr/>
        </p:nvPicPr>
        <p:blipFill>
          <a:blip r:embed="rId1"/>
          <a:stretch/>
        </p:blipFill>
        <p:spPr>
          <a:xfrm>
            <a:off x="4714920" y="35712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оком фаза 0, 1 и 2, као и током половине фазе 3 акционог потенцијала комора и преткомора, односно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ок мембрански потенцијал не достигне приближно –50 mV за време реполаризације, срчани мишић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е мож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бити поново надраже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оком ових фаза акционог потенцијала срчани мишић се налази 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псолутном рефракторном периоду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Апсолутни рефрактарни период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редставља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време током кога акциони потенцијал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 може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а се изазове без обзира на јачину стимулуса, јер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који узрокују деполаризацију још увек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инактивираном стањ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руга половина реполаризације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лативни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ефрактарни перио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5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оком релативног рефрактарног периода акциони потенцијал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да се изазове, али је потребан знатно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тимулус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јер је део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а још увек у инактивираном стању, а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су још увек отвор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стојање дугог рефрактарног периода </a:t>
            </a:r>
            <a:r>
              <a:rPr b="0" lang="sr-CS" sz="2300" spc="-1" strike="noStrike" u="sng">
                <a:solidFill>
                  <a:srgbClr val="000000"/>
                </a:solidFill>
                <a:uFillTx/>
                <a:latin typeface="Arial"/>
              </a:rPr>
              <a:t>спречава тетанизацију срчаног мишић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која би била летална у било ком период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30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онтрактилни одговор срчаног мишића започињ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посредно након почетка деполаризације, при чему је време трајања контракције приближно 50% дуже од времена трајања акционог потенција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Ћелијска мембрана кардиомиоцита прави дубоке инвагинације у области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-линија које се називају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-тубу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-тубули омогућавају преношење акционог потенцијала у унутрашњост ћел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ине тубули малог дијаметра који се налазе у близини контрактилних филамена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аркоплазматски ретикулум представља депо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и је неопходан за контрак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882720" y="765000"/>
            <a:ext cx="7378560" cy="58960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826920" y="6237360"/>
            <a:ext cx="289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 разлику од скелетног мишића где се са стране Т-тубула налазе цистерне саркоплазматског ретикулума, образујући тријаде, у срчаном мишићу нема тако правилног распореда ових структу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мембрани Т-тубула се налаз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ихидропиридински рецептор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HP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, који су волтаж-завис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и који се активирају током деполаризације и омогућавају улазак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у кардиомиоци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се везује з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ијанодинск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цепто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y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 на саркоплазматском ретикулу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ијанодински рецептори су лиганд-завис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Лиганд за ријанодинске рецепторе ј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и улази у кардиомиоците из екстрацелуларног прост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бог тога се ослобађањ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саркоплзматског ретикулума, посредством ријанодинских рецептора, који се активирају дејс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вом екстрацепуларног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који улази кроз дихидропиридинске рецепторе, назив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лцијумом индуковано ослобађање калцију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332000" y="3798720"/>
            <a:ext cx="6654600" cy="3059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258920" y="378936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435640" y="378936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летни миш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361680" y="4221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3836520" y="5445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2612520" y="5364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81768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408096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76364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594036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18960" y="1125360"/>
            <a:ext cx="85741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бог омогућавања релаксације срчаног мишића и пуњења срца крвљу врло је значајно адекватно уклањање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цитоплаз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враћају у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посредством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SERCA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саркоплазматска)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ATP-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з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избацују у екстрацелуларни простор посредством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/C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измењивач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на чију функцију утиче концентрациј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цитоплазми (коју контролиш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, K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-аза), као и дејством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а се налази на ћелијској мембрани кардиомиоци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Ефикасно уклањањ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цитоплазме помоћу наведених система омогућава релаксацију миокарда и адекватно пуњење комора крвљ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556000" y="2781360"/>
            <a:ext cx="41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Срчани цик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4" descr="animacija"/>
          <p:cNvPicPr/>
          <p:nvPr/>
        </p:nvPicPr>
        <p:blipFill>
          <a:blip r:embed="rId1"/>
          <a:stretch/>
        </p:blipFill>
        <p:spPr>
          <a:xfrm>
            <a:off x="2127240" y="1920960"/>
            <a:ext cx="5214960" cy="4603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5"/>
          <p:cNvSpPr/>
          <p:nvPr/>
        </p:nvSpPr>
        <p:spPr>
          <a:xfrm>
            <a:off x="914400" y="52560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РЦЕ СВАКОДНЕВНО МОЖЕ ДА ОСТВАРИ ОКО 100.000 ОТКУЦАЈА ОНДА И МИ  МОЖЕМО ДА УСВОЈИМО СВАКУ ФИНЕСУ О СРЧАНОМ ЦИКЛУСУ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Резултат слика за srcani zalisci"/>
          <p:cNvPicPr/>
          <p:nvPr/>
        </p:nvPicPr>
        <p:blipFill>
          <a:blip r:embed="rId1"/>
          <a:stretch/>
        </p:blipFill>
        <p:spPr>
          <a:xfrm>
            <a:off x="1116000" y="836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2627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СРЧАНИ 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79280" y="2060640"/>
            <a:ext cx="393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А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(atrio-ventrikularne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лвуле (трикуспидална и митрална валвула) спречавају да се крв за време систоле враћа из комора у прет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3789360"/>
            <a:ext cx="40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Семилунарне валвул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валвула аорте и валвула пулмоналне артерије) за време дијастоле спречавају да се крв враћа из аорте и плућне артерије у 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чане валвуле се пасивно отварају и затварају као последица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градијента прит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Резултат слика за srcani zalisci"/>
          <p:cNvPicPr/>
          <p:nvPr/>
        </p:nvPicPr>
        <p:blipFill>
          <a:blip r:embed="rId1"/>
          <a:stretch/>
        </p:blipFill>
        <p:spPr>
          <a:xfrm>
            <a:off x="3780000" y="1844640"/>
            <a:ext cx="5929200" cy="45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332000" y="477360"/>
            <a:ext cx="65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АПИЛАРНИ МИШИ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4613040" cy="48261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179280" y="206064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апиларни мишић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hordae tendineae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чвршћују за ивице валвула се контрахују када се зидови комора контрахују, и не помажу затварање валвула. Њихова функција је да вуку залиске у коморе, па се за време систоле комора валвуле не могу превише избочити у претко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dij"/>
          <p:cNvPicPr/>
          <p:nvPr/>
        </p:nvPicPr>
        <p:blipFill>
          <a:blip r:embed="rId1"/>
          <a:stretch/>
        </p:blipFill>
        <p:spPr>
          <a:xfrm>
            <a:off x="6329520" y="3173400"/>
            <a:ext cx="2814480" cy="3684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sis"/>
          <p:cNvPicPr/>
          <p:nvPr/>
        </p:nvPicPr>
        <p:blipFill>
          <a:blip r:embed="rId2"/>
          <a:stretch/>
        </p:blipFill>
        <p:spPr>
          <a:xfrm>
            <a:off x="0" y="3168720"/>
            <a:ext cx="2811600" cy="3689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54144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Срчани циклу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ериод од почетка је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акције до почетка друге контр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оји се од: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е (контракције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столе (релакс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Vladimir Zivkovic\Desktop\GANONG\SLIKE\XXX POGLAVLjE\PNG\Gan024_Slika_30-01.png"/>
          <p:cNvPicPr/>
          <p:nvPr/>
        </p:nvPicPr>
        <p:blipFill>
          <a:blip r:embed="rId1"/>
          <a:srcRect l="0" t="0" r="0" b="53430"/>
          <a:stretch/>
        </p:blipFill>
        <p:spPr>
          <a:xfrm>
            <a:off x="1116000" y="2997360"/>
            <a:ext cx="77454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Vladimir Zivkovic\Desktop\GANONG\SLIKE\XXX POGLAVLjE\PNG\Gan024_Slika_30-01.png"/>
          <p:cNvPicPr/>
          <p:nvPr/>
        </p:nvPicPr>
        <p:blipFill>
          <a:blip r:embed="rId1"/>
          <a:srcRect l="0" t="0" r="53848" b="53430"/>
          <a:stretch/>
        </p:blipFill>
        <p:spPr>
          <a:xfrm>
            <a:off x="4572000" y="213372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324000" y="2276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 почетку систоле комора, АV залисци се затварају, а семилунарни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ски мишић се мало скрати, интравентрикуларни притисак нагло расте (миокард притиска крв у комор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- Овај период </a:t>
            </a:r>
            <a:r>
              <a:rPr b="0" lang="ru-RU" sz="1800" spc="-1" strike="noStrike">
                <a:solidFill>
                  <a:srgbClr val="000000"/>
                </a:solidFill>
                <a:latin typeface="MinionPro-Regular"/>
              </a:rPr>
              <a:t>траје око 0,05 секунди, све док притисак у левој и десној комори не надвлада притиске у </a:t>
            </a: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аорти и плућној артер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 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50920" y="35733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а притисак у левој и десној комори надвлада притиске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орти (80 mmHg) и плућној артерији (10 mmHg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ази до отварања аортних и плућних залис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јекција је у почетку брза, а у даљем току систоле се успо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Vladimir Zivkovic\Desktop\GANONG\SLIKE\XXX POGLAVLjE\PNG\Gan024_Slika_30-01.png"/>
          <p:cNvPicPr/>
          <p:nvPr/>
        </p:nvPicPr>
        <p:blipFill>
          <a:blip r:embed="rId1"/>
          <a:srcRect l="46558" t="0" r="0" b="53430"/>
          <a:stretch/>
        </p:blipFill>
        <p:spPr>
          <a:xfrm>
            <a:off x="5148360" y="2492280"/>
            <a:ext cx="4608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6282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јвиши притисак у левој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и износи 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0 mmH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у десној 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рни волумен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се сваком контракцијом комора у мировању избаци (70–90 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д-систолни волумен комор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остаје у коморама на крају систоле (50 – 60 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нат енд-дијастолног волумена (130-140 ml) који се избаци при свакој систоли (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је значај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ељ функциј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утни волумен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мина крви коју срце испумпа током једног минута (у миру износи 4-6 L/мин), једнака је производу ударног волумена и фреквенције ср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рог пуњења комора (дијаст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ола претком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Vladimir Zivkovic\Desktop\GANONG\SLIKE\XXX POGLAVLjE\PNG\Gan024_Slika_30-01.png"/>
          <p:cNvPicPr/>
          <p:nvPr/>
        </p:nvPicPr>
        <p:blipFill>
          <a:blip r:embed="rId1"/>
          <a:srcRect l="0" t="46576" r="0" b="0"/>
          <a:stretch/>
        </p:blipFill>
        <p:spPr>
          <a:xfrm>
            <a:off x="1332000" y="2924280"/>
            <a:ext cx="662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Users\Vladimir Zivkovic\Desktop\GANONG\SLIKE\XXX POGLAVLjE\PNG\Gan024_Slika_30-01.png"/>
          <p:cNvPicPr/>
          <p:nvPr/>
        </p:nvPicPr>
        <p:blipFill>
          <a:blip r:embed="rId1"/>
          <a:srcRect l="0" t="46576" r="64134" b="0"/>
          <a:stretch/>
        </p:blipFill>
        <p:spPr>
          <a:xfrm>
            <a:off x="4998960" y="2060640"/>
            <a:ext cx="3894120" cy="4537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8229600" y="30686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50920" y="29973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да се залисци затворe, притисак наставља брзо да 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лунарни залисци су затворени, а   АV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ва фаза се завршава када комор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тисак падне испод притиска у преткоморама и АV залисци се отворе, омогућавајући пуњењ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9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Vladimir Zivkovic\Desktop\GANONG\SLIKE\XXX POGLAVLjE\PNG\Gan024_Slika_30-01.png"/>
          <p:cNvPicPr/>
          <p:nvPr/>
        </p:nvPicPr>
        <p:blipFill>
          <a:blip r:embed="rId1"/>
          <a:srcRect l="32539" t="46576" r="0" b="0"/>
          <a:stretch/>
        </p:blipFill>
        <p:spPr>
          <a:xfrm>
            <a:off x="4356000" y="2421000"/>
            <a:ext cx="4788000" cy="424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179280" y="3213000"/>
            <a:ext cx="42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V залисци су отворен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ртни и пулмонални залисци затвор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в из преткомора утиче у коморе најпре брзо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а фаза брзог пуњења комора), потом споро-пасивно (дијастаза), док се преосталих 25-30% крви избаци систолом (контракцијом) преткомора у 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7030a0"/>
                </a:solidFill>
                <a:latin typeface="Arial"/>
              </a:rPr>
              <a:t>Особине с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 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окарда имају мембрански потенцијал мировања од око -90 m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 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 међусобно раздвоје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ск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мбранама, али се деполаризација, захваљујућ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зним вез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које се налазе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еркалатним дискови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discus intercalatu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шири радиј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оз миокард, услед чега се срце понаша ка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 синцицију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5688000" cy="196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50920" y="5092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нов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„синцицијумске” природе срчаног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Srčani ciklus - Wikipedia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6875640" y="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iggersov dij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826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28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око 0,8 секунди (фреквенца 70-80/м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а комора – 1/3 времена – 0,3 секу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стола комора – 2/3 времена – 0,5 секу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а преткомора – 0,1 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стола преткомора – 0,7 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 повећањем фреквенције срца, срчани циклус се скраћ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аћење трајања систоле је последица скраћења фазе ејекције у сист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јање дијастоле се са повећањем фреквенције више смањ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чани мишић мирује током дијастоле, и коронарни проток крви кроз субендокардне делове леве коморе остварује се само у току дијаст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исоким фреквенцијама пуњење је адекватно све док постоји довољан венски прилив, а минутни волумен срца расте на рачун повећања фреквен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исоким фреквенцијама, пуњење може бити компромитовано до т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а да се смањи минутни волумен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ћи да има продужен акциони потенцијал, срчани мишић није у стању да реагује контракцијом на нови стимулус све до пред крај иницијалне контракције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може доћи до тетанизације срчаног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1026"/>
          <p:cNvSpPr/>
          <p:nvPr/>
        </p:nvSpPr>
        <p:spPr>
          <a:xfrm>
            <a:off x="2195640" y="1916280"/>
            <a:ext cx="799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27"/>
          <p:cNvSpPr/>
          <p:nvPr/>
        </p:nvSpPr>
        <p:spPr>
          <a:xfrm flipH="1">
            <a:off x="4284360" y="19890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28"/>
          <p:cNvSpPr/>
          <p:nvPr/>
        </p:nvSpPr>
        <p:spPr>
          <a:xfrm flipV="1">
            <a:off x="2340000" y="3716280"/>
            <a:ext cx="6858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29"/>
          <p:cNvSpPr/>
          <p:nvPr/>
        </p:nvSpPr>
        <p:spPr>
          <a:xfrm flipH="1" flipV="1">
            <a:off x="4211280" y="3789360"/>
            <a:ext cx="6858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30"/>
          <p:cNvSpPr/>
          <p:nvPr/>
        </p:nvSpPr>
        <p:spPr>
          <a:xfrm>
            <a:off x="960480" y="84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31"/>
          <p:cNvSpPr/>
          <p:nvPr/>
        </p:nvSpPr>
        <p:spPr>
          <a:xfrm>
            <a:off x="1795680" y="20527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33"/>
          <p:cNvSpPr/>
          <p:nvPr/>
        </p:nvSpPr>
        <p:spPr>
          <a:xfrm>
            <a:off x="179280" y="447840"/>
            <a:ext cx="871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Фактори који утичу на минутни волумен ср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4"/>
          <p:cNvSpPr/>
          <p:nvPr/>
        </p:nvSpPr>
        <p:spPr>
          <a:xfrm>
            <a:off x="539640" y="1413360"/>
            <a:ext cx="27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реквенција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5"/>
          <p:cNvSpPr/>
          <p:nvPr/>
        </p:nvSpPr>
        <p:spPr>
          <a:xfrm>
            <a:off x="4643280" y="1125360"/>
            <a:ext cx="1776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6"/>
          <p:cNvSpPr/>
          <p:nvPr/>
        </p:nvSpPr>
        <p:spPr>
          <a:xfrm>
            <a:off x="468360" y="4383360"/>
            <a:ext cx="2879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онтрактил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37"/>
          <p:cNvSpPr/>
          <p:nvPr/>
        </p:nvSpPr>
        <p:spPr>
          <a:xfrm>
            <a:off x="4427640" y="472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8"/>
          <p:cNvSpPr/>
          <p:nvPr/>
        </p:nvSpPr>
        <p:spPr>
          <a:xfrm>
            <a:off x="2987640" y="315288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39"/>
          <p:cNvSpPr/>
          <p:nvPr/>
        </p:nvSpPr>
        <p:spPr>
          <a:xfrm>
            <a:off x="3132000" y="2852640"/>
            <a:ext cx="115272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468360" y="544500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ELOAD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чана мишићна влакна истегнута оптерећењем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 до кога се миокард истеже пре контрак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TERLOAD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терећење притиском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кнадно оптерећење представља отпор против кога се крв истискује из ком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150px-Otto_frank_physiologist"/>
          <p:cNvPicPr/>
          <p:nvPr/>
        </p:nvPicPr>
        <p:blipFill>
          <a:blip r:embed="rId1"/>
          <a:stretch/>
        </p:blipFill>
        <p:spPr>
          <a:xfrm>
            <a:off x="2195640" y="1916280"/>
            <a:ext cx="1698480" cy="23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150px-Ernest_Starling"/>
          <p:cNvPicPr/>
          <p:nvPr/>
        </p:nvPicPr>
        <p:blipFill>
          <a:blip r:embed="rId2"/>
          <a:stretch/>
        </p:blipFill>
        <p:spPr>
          <a:xfrm>
            <a:off x="6394320" y="1916280"/>
            <a:ext cx="1863720" cy="22334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1979640" y="47628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РЕГУЛАЦИЈА РАДА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68360" y="1125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уторегулација срчаног ра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rank-Starling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633680" y="45864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to 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865 - 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183280" y="4580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nest Henry Star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866 –19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324000" y="56610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утономни нервни сис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атички и парасимпатички нер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28"/>
          <p:cNvSpPr/>
          <p:nvPr/>
        </p:nvSpPr>
        <p:spPr>
          <a:xfrm>
            <a:off x="-58680" y="620640"/>
            <a:ext cx="91832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АУТОРЕГУЛАЦИЈА СРЧАНОГ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k-Starling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физиолошким граница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це ће испумпати сву крв која у њега дође,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звољавајући да се превелика количина крви накуп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ве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29"/>
          <p:cNvSpPr/>
          <p:nvPr/>
        </p:nvSpPr>
        <p:spPr>
          <a:xfrm>
            <a:off x="635040" y="3141720"/>
            <a:ext cx="65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УТОНОМ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ФЕКТИ НА СР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0" t="30823" r="0" b="49418"/>
          <a:stretch/>
        </p:blipFill>
        <p:spPr>
          <a:xfrm>
            <a:off x="34920" y="4508640"/>
            <a:ext cx="9109080" cy="1152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rcRect l="0" t="-240" r="0" b="87550"/>
          <a:stretch/>
        </p:blipFill>
        <p:spPr>
          <a:xfrm>
            <a:off x="34920" y="3789360"/>
            <a:ext cx="910908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403280" y="105264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6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900000" y="2492280"/>
            <a:ext cx="75438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АУТОНОМНИ ЕФЕКТИ НА СРЦ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838080" y="11426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cc"/>
                </a:solidFill>
                <a:latin typeface="Arial"/>
              </a:rPr>
              <a:t>Аутономни ефекти на срцу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198240" y="2511360"/>
            <a:ext cx="44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ронотропни еф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853720" y="302256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ромотроп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отропни еф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атмотроп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52280" y="996480"/>
            <a:ext cx="899172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Дефиниције хронотропних и дромотропних еф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lphaLcPeriod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Хронотропни 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оводе до промена срчаног рит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и хрон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ње срчаног рит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 настаје усле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ња брзине окид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зитивни хрон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ња брз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чаног рит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њем брзине окид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ционих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611280" y="1413000"/>
            <a:ext cx="7920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б.  Дромотропни 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 промене у брзини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о 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и дромотропни ефека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смањење брзине пров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рава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ђење акционих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 комора и продуж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зитивни дром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 повећање брзине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брзава се провођ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х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ора и скраћ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7030a0"/>
                </a:solidFill>
                <a:latin typeface="Arial"/>
              </a:rPr>
              <a:t>Акциони потенцијали с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е разлике у изгледу акционих потенцијала у појединим деловима с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упадљивија карактеристика акционог потенцијала кардиомиоцита преткомора, комора и Пуркињеових влакана је постоја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лато ф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услед чега контракција срчаног мишића траје знатно дуже у односу на скелетни миши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286240" y="3573360"/>
            <a:ext cx="382284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0" y="3860640"/>
            <a:ext cx="550872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 кардиомиоцита преткомора, комора и Пуркињеових влакана састоји се из следећих фа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0 – д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1 – почетна р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2 – плато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3 – р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4 – мировни мембрански потенциј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85800" y="1343880"/>
            <a:ext cx="777240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Парасимпатички ефекти на фреквенцију срца и брзину провођ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коморе 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асимпатичку вагусну инерв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к је коморе не посед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трансмитер ј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етилхол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ACh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се везује з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олиноцепторе пејсмејкерских ћел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50920" y="476280"/>
            <a:ext cx="84978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Негативни хрон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ује се фреквенција срц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ужењем трајања фазе 4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њи бро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акционих потенцијала се јавља у јединици времена јер се праг потенцијала достиже спорије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 то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33cc"/>
                </a:solidFill>
                <a:latin typeface="Arial"/>
              </a:rPr>
              <a:t>Механиза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ог хронотропног еф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н улазак позитивних јо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фазе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порије се достиже праг окидања - нагиб препотенцијала је мањи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не пропустљивости мембране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лију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жи и/или већи излазак јона калијума из ћел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чиме с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ва негативност унутар влак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иперполаризаци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ед хиперполаризације спорије се достиже праг окидања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синусном чвору стање хиперполаризације смањује потенцијал “мировања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ч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на вредност негативнију него обично, на -65 до -7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уместо на -55 до 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 т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очетно повећање мембранског потенцијала синусног чвора узроковано цурењем јона натријума кроз мембрану траје дуже, док потенцијал не достигне праг за раздражење. То веома успорава ритмичност нодалних влак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1125360"/>
            <a:ext cx="85690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Негативни дром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ује се брзина пров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дужава с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преносе спор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 ком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ативног дромотропног ефек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ен улазак позитив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н излазак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700360" y="4076640"/>
            <a:ext cx="388764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539640" y="69048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Симпатички ефекти на фреквенцију ср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и брзину пр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уротрансмитер је </a:t>
            </a:r>
            <a:r>
              <a:rPr b="1" lang="sr-CS" sz="2000" spc="-1" strike="noStrike">
                <a:solidFill>
                  <a:srgbClr val="0033cc"/>
                </a:solidFill>
                <a:latin typeface="Arial"/>
              </a:rPr>
              <a:t>норадренал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и се везује 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адрено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ептор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4876920" y="3789360"/>
            <a:ext cx="4267080" cy="2590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179280" y="2492280"/>
            <a:ext cx="45720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cc"/>
                </a:solidFill>
                <a:latin typeface="Arial"/>
              </a:rPr>
              <a:t>Позитивни хронотропни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брзава се рад срц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реквенц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аћење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ф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(брже се достиже праг окидања - нагиб препотенцијала је већ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 акционих потенцијала се јавља у јединици вре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р се праговни потенцијал достиже брже а самим тим и чешћ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зам позитивног хронотропног ефекта  је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повећан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азак позитивних натријумових јо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 су одговорни за фаз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табилног мировног потенција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755640" y="692280"/>
            <a:ext cx="792000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Позитивни дром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ва брзину провођења кроз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краћу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и 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де брже од преткомора до комора тако да пуњење комора може бити смање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 позитивног дромотропног ефекта  је повећан улазак позитивних јона кал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р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(повећана проводљивост з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 смањене проводљивости за 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76720" y="3933720"/>
            <a:ext cx="36907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403560"/>
            <a:ext cx="8497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онтракт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 унутрашње својство срчаног мишића да развије силу за дату дужину мишић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То се другачије зове </a:t>
            </a:r>
            <a:r>
              <a:rPr b="0" lang="sr-CS" sz="2200" spc="-1" strike="noStrike">
                <a:solidFill>
                  <a:srgbClr val="0033cc"/>
                </a:solidFill>
                <a:latin typeface="Arial"/>
              </a:rPr>
              <a:t>инотропиза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виси од интрацелуларне концен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подсетимо се да интрацелуларн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 срчаном мишићу потиче једним делом из екстрацелуларног простора а другим делом из саркоплазматског ретикулума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же да се проце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ко ејекционе фрак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дар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н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јасто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а нормално износ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0.55 (5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33cc"/>
                </a:solidFill>
                <a:latin typeface="Arial"/>
              </a:rPr>
              <a:t>Инотропни ефе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зитивни инотропни факто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азивају повећ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трактил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гативни инотропни факто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азивају смањ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трактил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324000" y="767520"/>
            <a:ext cx="8640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Фактори који повећавају контрактилност</a:t>
            </a:r>
            <a:r>
              <a:rPr b="1" lang="sr-Latn-C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позитиван инотропни ефекат</a:t>
            </a:r>
            <a:r>
              <a:rPr b="1" lang="sr-Latn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.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Повећање фреквенције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е више акционих потенцијала јави у јединици врем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и 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е срца током фазе платоа акционог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ослобађа из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R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већи је и напон који се развија током контр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 повећана срчана фреквенција повећава постепено силу контракције у оној мери колико се интрацелуларна 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умулативно током неколико откуцаја ср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кстрасистол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акција која се јавља после екстрасистоле има већу силу усл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т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улази у ћелије током екстрасисто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4343400" cy="2586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395280" y="765000"/>
            <a:ext cx="835344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 Симпатичка стимулација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катехоламини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преко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99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рецеп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 снагу контракције преко два механиз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њ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ћелиј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плато фазе сваког акционог потенцијала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њем активн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мп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сфорилацијом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осфоламба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о резултира у већој акумулациј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на тај начин је виш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ступно за ослобађање у наредном период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484360" y="3500280"/>
            <a:ext cx="4751640" cy="3049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250920" y="476280"/>
            <a:ext cx="889308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ц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Кардиотонични гликозиди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дигиталис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ју снагу контракције на тај начин што инхибирај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ATP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зу на мемб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чан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резултат ове инхиби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целулар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центрација јо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повећ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ујући градијен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 ћелијску мембра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3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 којим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збац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и од величине градијента 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у да је смањ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повећањ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целуларног кал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981080" y="2073960"/>
            <a:ext cx="655344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080" rIns="2993040" tIns="914040" bIns="45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468360" y="981000"/>
            <a:ext cx="8137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Фактори који смањују контракт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негативни инотропни ефекат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арасимпатичка стимул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A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је фреквенција срчаног рада ниска, улазак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 све време мањи, остављајући довољно времена за излазак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змеђу акционих потенцијала. Просечна концентрација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 цитосолу се смањује и контрактилност је ниска. Парасимпатичка влакна испољавају негативан инотропан ефекат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фреквенцијски инотропиза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амо преко овог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индирект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мех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0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 представљ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брзу д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јон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роз брзе, волтаж-зависне натријумске канале (натријумска струја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при чему вердност мембранског потенцијала тежи да достигне равнотежни потенцијал з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708280" y="3213000"/>
            <a:ext cx="3727440" cy="3456000"/>
          </a:xfrm>
          <a:prstGeom prst="rect">
            <a:avLst/>
          </a:prstGeom>
          <a:ln w="0">
            <a:noFill/>
          </a:ln>
        </p:spPr>
      </p:pic>
      <p:sp>
        <p:nvSpPr>
          <p:cNvPr id="61" name="Oval 7"/>
          <p:cNvSpPr/>
          <p:nvPr/>
        </p:nvSpPr>
        <p:spPr>
          <a:xfrm>
            <a:off x="3635280" y="4653000"/>
            <a:ext cx="2890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348000" y="602136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очетну р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тварања канала за натриј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услед чега се смањује количина позитивног наелектрисања које улази у ћелију, 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отварања канала за калију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услед чега се повећава количина позитивног наелектрисања које излази из ћел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3041640" y="3141720"/>
            <a:ext cx="3060720" cy="28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3041640" y="5950080"/>
            <a:ext cx="3060720" cy="507960"/>
          </a:xfrm>
          <a:prstGeom prst="rect">
            <a:avLst/>
          </a:prstGeom>
          <a:ln w="0">
            <a:noFill/>
          </a:ln>
        </p:spPr>
      </p:pic>
      <p:sp>
        <p:nvSpPr>
          <p:cNvPr id="67" name="Oval 7"/>
          <p:cNvSpPr/>
          <p:nvPr/>
        </p:nvSpPr>
        <p:spPr>
          <a:xfrm>
            <a:off x="3924360" y="314172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708360" y="5445000"/>
            <a:ext cx="2872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9"/>
          <p:cNvSpPr/>
          <p:nvPr/>
        </p:nvSpPr>
        <p:spPr>
          <a:xfrm>
            <a:off x="3708360" y="6093000"/>
            <a:ext cx="2872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2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лато фаз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кционог 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пролазног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опустљивос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мембране з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 усле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ијег и продуженог отварања волтаж-зависних канала за калцијум и уласк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у кардиомиоците (C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труја, I</a:t>
            </a:r>
            <a:r>
              <a:rPr b="0" lang="sr-CS" sz="2200" spc="-1" strike="noStrike" baseline="-25000">
                <a:solidFill>
                  <a:srgbClr val="000000"/>
                </a:solidFill>
                <a:latin typeface="Arial"/>
              </a:rPr>
              <a:t>C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као 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оводљивос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746680" y="3141720"/>
            <a:ext cx="3384720" cy="246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5746680" y="5589720"/>
            <a:ext cx="3384720" cy="1157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0" y="3284640"/>
            <a:ext cx="529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личина 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оја уђе у кардиомиоците и К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оја изађе је приближно иста, па се потенцијал мембране одржава на плато ниво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7236000" y="335772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6588000" y="5732640"/>
            <a:ext cx="165600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6659640" y="6165720"/>
            <a:ext cx="165744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3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нала з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спорог, одложеног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ласк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лијум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з ћелије кроз калијумске канале, при чему се потенцијал враћа на вредности мировног мембранског потенцијал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62360" y="3313080"/>
            <a:ext cx="3419280" cy="249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2862360" y="5818320"/>
            <a:ext cx="3419280" cy="563400"/>
          </a:xfrm>
          <a:prstGeom prst="rect">
            <a:avLst/>
          </a:prstGeom>
          <a:ln w="0">
            <a:noFill/>
          </a:ln>
        </p:spPr>
      </p:pic>
      <p:sp>
        <p:nvSpPr>
          <p:cNvPr id="82" name="Oval 5"/>
          <p:cNvSpPr/>
          <p:nvPr/>
        </p:nvSpPr>
        <p:spPr>
          <a:xfrm>
            <a:off x="5508720" y="479736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5364000" y="587700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Suzana Pantovic</cp:lastModifiedBy>
  <dcterms:modified xsi:type="dcterms:W3CDTF">2023-03-31T10:27:41Z</dcterms:modified>
  <cp:revision>88</cp:revision>
  <dc:subject/>
  <dc:title>Физиологија срца</dc:title>
</cp:coreProperties>
</file>